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52015"/>
        <c:axId val="94853484"/>
      </c:barChart>
      <c:catAx>
        <c:axId val="40752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53484"/>
        <c:crosses val="autoZero"/>
        <c:auto val="1"/>
        <c:lblAlgn val="ctr"/>
        <c:lblOffset val="100"/>
        <c:noMultiLvlLbl val="0"/>
      </c:catAx>
      <c:valAx>
        <c:axId val="94853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52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63A-8E41-4DCB-A7CA-339E5A07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FA7-0BAE-4EF0-9BA8-B0E70B80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933-AD3D-4FAD-96EB-C48E6964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8DC-DE8D-4964-B558-B42B14EA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12D-4D5D-4D84-90A9-C17811AD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EE5-2F57-474E-8E8A-6D0510C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882-2F80-4F76-9B05-656A28D5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01E-649F-4853-9CFE-7BF4C07A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9E9-80C6-4B9E-8710-854B371F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C5F-059B-4440-96D5-3BEDD616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F0E-4CC6-4ACA-8EF7-9E8781BC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814-96FE-48EC-A516-547CAE5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6A13C-9C37-4A99-B448-7DF76328A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